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7F79-6714-44EC-8232-CEEA187B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AC95-4202-4DEE-8E23-826DF80D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7379-7DFE-4408-85B7-A4AE3E36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660-1755-42C6-AD33-EC0A7804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066A-05AE-4F33-BCC1-3161CFDF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E679-2973-4020-A5C7-C21E4578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A91C-8402-4C3B-BC16-32C27E46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F35A-7F25-4A76-AFCB-779DD243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22EC-5543-41D9-955A-3BB63B6C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A186-A838-4DB5-8398-DFCFBCE5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ACFF-8AF9-4618-924E-177C98A0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5C1C-3471-4511-A359-3B8A5B35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9A05-FEA7-48C3-BCA0-CF17A2C5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C785-0B7C-4B85-ACCB-959031D6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98D3-58E6-47A1-964D-D8FDD912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F753-2E27-4674-96EB-093AB3F0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5600-D8E1-4519-B9F4-D7471426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834E-1352-4C78-A0E0-E891F87E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1B2-7499-418B-9EC9-4B4189DD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340E-DACA-472E-8FA7-D37013E4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767C-5F04-4406-984D-4EA43741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5459-C0DB-408F-A1A5-B76CE17D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E9E3-927A-4AB8-9587-AE86EB68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BC34-7F10-42DC-984C-F35276C9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20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A3CF-C5F8-4D45-9BE2-8787543C9A8C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D818-E2B1-49BF-AB48-F4C10C27C617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hteck 6"/>
          <p:cNvSpPr/>
          <p:nvPr/>
        </p:nvSpPr>
        <p:spPr>
          <a:xfrm>
            <a:off x="0" y="2286000"/>
            <a:ext cx="125280" cy="2286000"/>
          </a:xfrm>
          <a:prstGeom prst="rect">
            <a:avLst/>
          </a:prstGeom>
          <a:solidFill>
            <a:srgbClr val="b9b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hteck 7"/>
          <p:cNvSpPr/>
          <p:nvPr/>
        </p:nvSpPr>
        <p:spPr>
          <a:xfrm>
            <a:off x="125280" y="2286000"/>
            <a:ext cx="127080" cy="2286000"/>
          </a:xfrm>
          <a:prstGeom prst="rect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hteck 8"/>
          <p:cNvSpPr/>
          <p:nvPr/>
        </p:nvSpPr>
        <p:spPr>
          <a:xfrm>
            <a:off x="0" y="0"/>
            <a:ext cx="125280" cy="2286000"/>
          </a:xfrm>
          <a:prstGeom prst="rect">
            <a:avLst/>
          </a:prstGeom>
          <a:solidFill>
            <a:srgbClr val="005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hteck 9"/>
          <p:cNvSpPr/>
          <p:nvPr/>
        </p:nvSpPr>
        <p:spPr>
          <a:xfrm>
            <a:off x="125280" y="0"/>
            <a:ext cx="127080" cy="228600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hteck 10"/>
          <p:cNvSpPr/>
          <p:nvPr/>
        </p:nvSpPr>
        <p:spPr>
          <a:xfrm>
            <a:off x="0" y="4572000"/>
            <a:ext cx="125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Rechteck 11"/>
          <p:cNvSpPr/>
          <p:nvPr/>
        </p:nvSpPr>
        <p:spPr>
          <a:xfrm>
            <a:off x="125280" y="4572000"/>
            <a:ext cx="127080" cy="228600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Picture 2" descr=""/>
          <p:cNvPicPr/>
          <p:nvPr/>
        </p:nvPicPr>
        <p:blipFill>
          <a:blip r:embed="rId2"/>
          <a:stretch/>
        </p:blipFill>
        <p:spPr>
          <a:xfrm>
            <a:off x="7451640" y="150840"/>
            <a:ext cx="1440000" cy="461880"/>
          </a:xfrm>
          <a:prstGeom prst="rect">
            <a:avLst/>
          </a:prstGeom>
          <a:ln w="0">
            <a:noFill/>
          </a:ln>
        </p:spPr>
      </p:pic>
      <p:sp>
        <p:nvSpPr>
          <p:cNvPr id="10" name="Rechteck 12"/>
          <p:cNvSpPr/>
          <p:nvPr/>
        </p:nvSpPr>
        <p:spPr>
          <a:xfrm rot="16200000">
            <a:off x="-1076760" y="5666040"/>
            <a:ext cx="227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15151"/>
                </a:solidFill>
                <a:latin typeface="Arial"/>
                <a:ea typeface="Arial"/>
              </a:rPr>
              <a:t>Mitglied in der Helmholtz-Gemeinschaf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eck 6"/>
          <p:cNvSpPr/>
          <p:nvPr/>
        </p:nvSpPr>
        <p:spPr>
          <a:xfrm>
            <a:off x="0" y="2286000"/>
            <a:ext cx="125280" cy="2286000"/>
          </a:xfrm>
          <a:prstGeom prst="rect">
            <a:avLst/>
          </a:prstGeom>
          <a:solidFill>
            <a:srgbClr val="b9b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7"/>
          <p:cNvSpPr/>
          <p:nvPr/>
        </p:nvSpPr>
        <p:spPr>
          <a:xfrm>
            <a:off x="125280" y="2286000"/>
            <a:ext cx="127080" cy="2286000"/>
          </a:xfrm>
          <a:prstGeom prst="rect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hteck 8"/>
          <p:cNvSpPr/>
          <p:nvPr/>
        </p:nvSpPr>
        <p:spPr>
          <a:xfrm>
            <a:off x="0" y="0"/>
            <a:ext cx="125280" cy="2286000"/>
          </a:xfrm>
          <a:prstGeom prst="rect">
            <a:avLst/>
          </a:prstGeom>
          <a:solidFill>
            <a:srgbClr val="005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hteck 9"/>
          <p:cNvSpPr/>
          <p:nvPr/>
        </p:nvSpPr>
        <p:spPr>
          <a:xfrm>
            <a:off x="125280" y="0"/>
            <a:ext cx="127080" cy="228600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hteck 10"/>
          <p:cNvSpPr/>
          <p:nvPr/>
        </p:nvSpPr>
        <p:spPr>
          <a:xfrm>
            <a:off x="0" y="4572000"/>
            <a:ext cx="125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hteck 11"/>
          <p:cNvSpPr/>
          <p:nvPr/>
        </p:nvSpPr>
        <p:spPr>
          <a:xfrm>
            <a:off x="125280" y="4572000"/>
            <a:ext cx="127080" cy="228600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7451640" y="150840"/>
            <a:ext cx="1440000" cy="461880"/>
          </a:xfrm>
          <a:prstGeom prst="rect">
            <a:avLst/>
          </a:prstGeom>
          <a:ln w="0">
            <a:noFill/>
          </a:ln>
        </p:spPr>
      </p:pic>
      <p:sp>
        <p:nvSpPr>
          <p:cNvPr id="54" name="Rechteck 12"/>
          <p:cNvSpPr/>
          <p:nvPr/>
        </p:nvSpPr>
        <p:spPr>
          <a:xfrm rot="16200000">
            <a:off x="-1076760" y="5666040"/>
            <a:ext cx="227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15151"/>
                </a:solidFill>
                <a:latin typeface="Arial"/>
                <a:ea typeface="Arial"/>
              </a:rPr>
              <a:t>Mitglied in der Helmholtz-Gemeinschaf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hteck 6"/>
          <p:cNvSpPr/>
          <p:nvPr/>
        </p:nvSpPr>
        <p:spPr>
          <a:xfrm>
            <a:off x="250920" y="2286000"/>
            <a:ext cx="8893080" cy="4572000"/>
          </a:xfrm>
          <a:prstGeom prst="rect">
            <a:avLst/>
          </a:prstGeom>
          <a:solidFill>
            <a:srgbClr val="005b82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hteck 8"/>
          <p:cNvSpPr/>
          <p:nvPr/>
        </p:nvSpPr>
        <p:spPr>
          <a:xfrm>
            <a:off x="7308720" y="1440"/>
            <a:ext cx="183528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0" descr="logo_699cm"/>
          <p:cNvPicPr/>
          <p:nvPr/>
        </p:nvPicPr>
        <p:blipFill>
          <a:blip r:embed="rId3"/>
          <a:stretch/>
        </p:blipFill>
        <p:spPr>
          <a:xfrm>
            <a:off x="6194520" y="249120"/>
            <a:ext cx="2517840" cy="8175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dt" idx="4"/>
          </p:nvPr>
        </p:nvSpPr>
        <p:spPr>
          <a:xfrm>
            <a:off x="720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80FF-7635-491C-97EB-D3D215972643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AD36-1ED4-4C55-A5D0-2D4E932C20E7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ocalhost:1080/testprovider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ebpy.org/" TargetMode="External"/><Relationship Id="rId2" Type="http://schemas.openxmlformats.org/officeDocument/2006/relationships/hyperlink" Target="http://webpy.org/" TargetMode="External"/><Relationship Id="rId3" Type="http://schemas.openxmlformats.org/officeDocument/2006/relationships/hyperlink" Target="http://lxml.de/" TargetMode="External"/><Relationship Id="rId4" Type="http://schemas.openxmlformats.org/officeDocument/2006/relationships/hyperlink" Target="http://lxml.de/" TargetMode="External"/><Relationship Id="rId5" Type="http://schemas.openxmlformats.org/officeDocument/2006/relationships/hyperlink" Target="http://numpy.scipy.org/" TargetMode="External"/><Relationship Id="rId6" Type="http://schemas.openxmlformats.org/officeDocument/2006/relationships/hyperlink" Target="http://numpy.scipy.org/" TargetMode="External"/><Relationship Id="rId7" Type="http://schemas.openxmlformats.org/officeDocument/2006/relationships/hyperlink" Target="http://pypi.python.org/pypi/wsgilog/" TargetMode="External"/><Relationship Id="rId8" Type="http://schemas.openxmlformats.org/officeDocument/2006/relationships/hyperlink" Target="http://pypi.python.org/pypi/wsgilog/" TargetMode="External"/><Relationship Id="rId9" Type="http://schemas.openxmlformats.org/officeDocument/2006/relationships/hyperlink" Target="http://www.pyngl.ucar.edu/Nio.shtml" TargetMode="Externa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ebapps.datafed.net/nest/OWS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11280" y="2708280"/>
            <a:ext cx="7850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Arial"/>
                <a:ea typeface="Arial"/>
              </a:rPr>
              <a:t>WCS Server for CF-NetCDF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3499920"/>
            <a:ext cx="725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An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826920" y="4869000"/>
            <a:ext cx="7777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AQCoP Meeting, August 2011 | M. Decker, M. Schultz, K. Hoijarvi, R.B. Hus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720720" y="1989000"/>
            <a:ext cx="8074080" cy="41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install 3rd party software (see dependenci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get WCS server archive from SourceForge project 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indows: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win32-ows-*.z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inux: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linux-ows-*.tar.g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put archive contents into sensible location for server op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for example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/usr/local/ow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(Linux) or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C:\ow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(Window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dd server dir to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PYTHONPATH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environment 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4AD9-1B7C-47CF-AC96-4FE6413DAFC3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3F91-884C-434C-AD1D-CB65CB78EE68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20360" y="115200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5b82"/>
                </a:solidFill>
                <a:latin typeface="Arial"/>
                <a:ea typeface="Arial"/>
              </a:rPr>
              <a:t>Getting Started I: Instal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5640" y="1844280"/>
            <a:ext cx="8074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example data dir  included: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Arial"/>
              </a:rPr>
              <a:t>testprovi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76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  <a:ea typeface="Arial"/>
              </a:rPr>
              <a:t>contains example files (</a:t>
            </a:r>
            <a:r>
              <a:rPr b="1" lang="de-DE" sz="1900" spc="-1" strike="noStrike">
                <a:solidFill>
                  <a:srgbClr val="000000"/>
                </a:solidFill>
                <a:latin typeface="Courier New"/>
                <a:ea typeface="Arial"/>
              </a:rPr>
              <a:t>index.html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de-DE" sz="1900" spc="-1" strike="noStrike">
                <a:solidFill>
                  <a:srgbClr val="000000"/>
                </a:solidFill>
                <a:latin typeface="Courier New"/>
                <a:ea typeface="Arial"/>
              </a:rPr>
              <a:t>wcs_capabilities.conf</a:t>
            </a:r>
            <a:r>
              <a:rPr b="1" lang="de-DE" sz="19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de-DE" sz="19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  <a:ea typeface="Arial"/>
              </a:rPr>
              <a:t>that you can adapt for your own dat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create NetCDF test cub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all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 web/static/testprovider/create_all.p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xtract metadata for oper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all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web/owsadmin.py wcs_prepare testprovi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tart the serv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web/ows.py 108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check if it wor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localhost:1080/testprovi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22C3-F4A3-466D-8ADD-1AE08B5626DA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ABF4-F8B6-4B8F-9FA3-C536EC579201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20360" y="115200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5b82"/>
                </a:solidFill>
                <a:latin typeface="Arial"/>
                <a:ea typeface="Arial"/>
              </a:rPr>
              <a:t>Getting Started II: test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20720" y="1989000"/>
            <a:ext cx="8074080" cy="41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create a data directory in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web/static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populate it with (CF-compliant) NetCDF fi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configure meta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reate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wcs_capabilities.con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reate human-readable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index.html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optional, but encourag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you can use the example files from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testprovi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run metadata extracto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owsadmin.py wcs_prepare &lt;data dir nam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needs to be re-run after data dir content has been upd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lso adapt the global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dex.htm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Arial"/>
              </a:rPr>
              <a:t>web/sta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6E2B-631C-49CB-9F79-A42D76438F17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D771-0913-4066-B437-9B377938246C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20360" y="115200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5b82"/>
                </a:solidFill>
                <a:latin typeface="Arial"/>
                <a:ea typeface="Arial"/>
              </a:rPr>
              <a:t>Getting Started III: serving your data (NetCDF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1D19-35FC-4369-ACB3-C7E8DCA04E1E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40BC-439E-4D45-AB25-1D56424ECE55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20360" y="115200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5b82"/>
                </a:solidFill>
                <a:latin typeface="Arial"/>
                <a:ea typeface="Arial"/>
              </a:rPr>
              <a:t>Getting Started IV: serving station data (SQL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Inhaltsplatzhalter 6"/>
          <p:cNvSpPr/>
          <p:nvPr/>
        </p:nvSpPr>
        <p:spPr>
          <a:xfrm>
            <a:off x="611280" y="1700280"/>
            <a:ext cx="8074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create a data directory in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web/static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create SQL views 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ocation data: loc_code, lat, lon + op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arameter data: loc_code, lat, lon, datetime, parameter, fla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dit configur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QL database conn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ocation SQL view name +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ime periodicity for each cover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QL data view name + fields for each parame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configure metadata as with NetCDF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Microsoft Sans Serif"/>
                <a:ea typeface="Arial"/>
              </a:rPr>
              <a:t>The real work is done inside the SQL database when creatring SQL views, the rest is just listing the names!</a:t>
            </a:r>
            <a:r>
              <a:rPr b="0" i="1" lang="de-DE" sz="2000" spc="-1" strike="noStrike">
                <a:solidFill>
                  <a:srgbClr val="000000"/>
                </a:solidFill>
                <a:latin typeface="Microsoft Sans Serif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11280" y="2204640"/>
            <a:ext cx="8074080" cy="29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start the standalone serve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ows.py [port number]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(default port: 108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ata will be available via WCS 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http://localhost:&lt;port&gt;/&lt;data dir&gt;?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F94E-3669-4F10-9DB0-1127884F9AA4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FF01-8430-4CF8-A82C-3E25F5D0868C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20360" y="115200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5b82"/>
                </a:solidFill>
                <a:latin typeface="Arial"/>
                <a:ea typeface="Arial"/>
              </a:rPr>
              <a:t>Getting Started V: running the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7484-FD05-4B96-9F3D-602C8DDAAE3B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664E-3400-45C1-B177-B5A361460EC0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20360" y="115200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3429000"/>
            <a:ext cx="612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20720" y="1989000"/>
            <a:ext cx="8074080" cy="41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0752-6FFE-48DF-A95B-07F265BAF4B0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47BC-3152-4D0D-A2C1-30934B3401A7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20360" y="115200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20720" y="1989000"/>
            <a:ext cx="8074080" cy="41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unctioning software package that implements a WCS compliant data server delivering NetCDF fi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ased on Pyth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Runs on Windows and Linu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Supports WCS 1.1.2 Protoc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Supports NetCDF 3 and NetCDF 4 large file form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Supports station data from SQL datab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766F-6D2F-412C-9A30-4E510C80B0AD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1450-9F87-42AB-A92D-32B4ED2F259F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20360" y="115200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5b82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20720" y="1989000"/>
            <a:ext cx="8074080" cy="41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etadata about.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erv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vailable datas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traction of.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rectangular area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undingb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ividual variable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el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ividual points or ranges in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ubsetting of other dimens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..the foundation for using interoperable web appl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9393-0ED1-49FF-873C-E5160EE8D3C9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340B-6DE4-4C60-99C9-225902394355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20360" y="115200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5b82"/>
                </a:solidFill>
                <a:latin typeface="Arial"/>
                <a:ea typeface="Arial"/>
              </a:rPr>
              <a:t>WCS gives you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20720" y="1989000"/>
            <a:ext cx="8074080" cy="41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B529-4B69-4FF0-8526-10A39AAE662C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4F3C-7AB7-4062-95D9-6D2AB51B5EE3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55280" y="76464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5b82"/>
                </a:solidFill>
                <a:latin typeface="Arial"/>
                <a:ea typeface="Arial"/>
              </a:rPr>
              <a:t>High-Level view of W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70563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911E-0638-4A72-9D40-78F3584E57D4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391D-3B18-4F09-A91F-22583EB8ED01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55280" y="76464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5b82"/>
                </a:solidFill>
                <a:latin typeface="Arial"/>
                <a:ea typeface="Arial"/>
              </a:rPr>
              <a:t>Example metadata response (GetCapabilitie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63272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0F0F-34FD-4DC1-AC02-2829A2F3B920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7B08-8839-4C4D-84DF-DC6A808C49CB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20360" y="115200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5b82"/>
                </a:solidFill>
                <a:latin typeface="Arial"/>
                <a:ea typeface="Arial"/>
              </a:rPr>
              <a:t>Software Depend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4360" y="1916280"/>
          <a:ext cx="8073720" cy="4051080"/>
        </p:xfrm>
        <a:graphic>
          <a:graphicData uri="http://schemas.openxmlformats.org/drawingml/2006/table">
            <a:tbl>
              <a:tblPr/>
              <a:tblGrid>
                <a:gridCol w="3682800"/>
                <a:gridCol w="2121120"/>
                <a:gridCol w="2269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(&gt;= X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U/Lin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h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= 2.6 (but not 3 - ye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hon web frame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.py (</a:t>
                      </a:r>
                      <a:r>
                        <a:rPr b="0" lang="de-DE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http://webpy.org</a:t>
                      </a:r>
                      <a:r>
                        <a:rPr b="0" lang="de-DE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"/>
                        </a:rPr>
                        <a:t>/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hon XML par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xml (</a:t>
                      </a:r>
                      <a:r>
                        <a:rPr b="0" lang="de-DE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"/>
                        </a:rPr>
                        <a:t>http://lxml.de</a:t>
                      </a:r>
                      <a:r>
                        <a:rPr b="0" lang="de-DE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4"/>
                        </a:rPr>
                        <a:t>/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hon numerical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Py (</a:t>
                      </a:r>
                      <a:r>
                        <a:rPr b="0" lang="de-DE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5"/>
                        </a:rPr>
                        <a:t>http://numpy.scipy.org</a:t>
                      </a:r>
                      <a:r>
                        <a:rPr b="0" lang="de-DE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6"/>
                        </a:rPr>
                        <a:t>/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ging Backend for web.py (option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giLog (</a:t>
                      </a:r>
                      <a:r>
                        <a:rPr b="0" lang="de-DE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7"/>
                        </a:rPr>
                        <a:t>http://pypi.python.org/pypi/wsgilog</a:t>
                      </a:r>
                      <a:r>
                        <a:rPr b="0" lang="de-DE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8"/>
                        </a:rPr>
                        <a:t>/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hon netcdf inte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currently part of server package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N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de-DE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9"/>
                        </a:rPr>
                        <a:t>http://www.pyngl.ucar.edu/Nio.shtml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or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EC3E-2C7D-4024-8F0C-F6BB8DBD5E99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69D4-836C-4CF1-88B6-91A62BF6DAF2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55280" y="83628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5b82"/>
                </a:solidFill>
                <a:latin typeface="Arial"/>
                <a:ea typeface="Arial"/>
              </a:rPr>
              <a:t>Server Conce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173400" y="1268280"/>
            <a:ext cx="29973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4220-FDBC-4736-830E-38399B049948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7373-0ED0-4F99-83C9-88E8AA7B2CEB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20360" y="115200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5b82"/>
                </a:solidFill>
                <a:latin typeface="Arial"/>
                <a:ea typeface="Arial"/>
              </a:rPr>
              <a:t>Server Directory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754200" y="1774800"/>
            <a:ext cx="136836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1690560" y="3071880"/>
            <a:ext cx="136872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2625840" y="3789360"/>
            <a:ext cx="136836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" name=""/>
          <p:cNvCxnSpPr>
            <a:stCxn id="135" idx="2"/>
            <a:endCxn id="136" idx="1"/>
          </p:cNvCxnSpPr>
          <p:nvPr/>
        </p:nvCxnSpPr>
        <p:spPr>
          <a:xfrm flipH="1" rot="16200000">
            <a:off x="1022760" y="2620800"/>
            <a:ext cx="1081800" cy="253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6" idx="2"/>
            <a:endCxn id="137" idx="1"/>
          </p:cNvCxnSpPr>
          <p:nvPr/>
        </p:nvCxnSpPr>
        <p:spPr>
          <a:xfrm flipH="1" rot="16200000">
            <a:off x="2248560" y="3628800"/>
            <a:ext cx="502560" cy="251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5" idx="2"/>
            <a:endCxn id="141" idx="1"/>
          </p:cNvCxnSpPr>
          <p:nvPr/>
        </p:nvCxnSpPr>
        <p:spPr>
          <a:xfrm flipH="1" rot="16200000">
            <a:off x="1347480" y="2296080"/>
            <a:ext cx="432360" cy="253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1690560" y="2422440"/>
            <a:ext cx="136872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dataf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3635280" y="5014800"/>
            <a:ext cx="172728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testprovi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3" name=""/>
          <p:cNvCxnSpPr>
            <a:stCxn id="137" idx="2"/>
            <a:endCxn id="142" idx="1"/>
          </p:cNvCxnSpPr>
          <p:nvPr/>
        </p:nvCxnSpPr>
        <p:spPr>
          <a:xfrm flipH="1" rot="16200000">
            <a:off x="2967480" y="4562640"/>
            <a:ext cx="1010520" cy="326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4" name=""/>
          <p:cNvSpPr/>
          <p:nvPr/>
        </p:nvSpPr>
        <p:spPr>
          <a:xfrm>
            <a:off x="3635280" y="5662440"/>
            <a:ext cx="172728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5" name=""/>
          <p:cNvCxnSpPr>
            <a:stCxn id="137" idx="2"/>
            <a:endCxn id="144" idx="1"/>
          </p:cNvCxnSpPr>
          <p:nvPr/>
        </p:nvCxnSpPr>
        <p:spPr>
          <a:xfrm flipH="1" rot="16200000">
            <a:off x="2643840" y="4886640"/>
            <a:ext cx="1658160" cy="326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6" name=""/>
          <p:cNvSpPr/>
          <p:nvPr/>
        </p:nvSpPr>
        <p:spPr>
          <a:xfrm>
            <a:off x="3635280" y="4365720"/>
            <a:ext cx="172728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7" name=""/>
          <p:cNvCxnSpPr>
            <a:stCxn id="137" idx="2"/>
            <a:endCxn id="146" idx="1"/>
          </p:cNvCxnSpPr>
          <p:nvPr/>
        </p:nvCxnSpPr>
        <p:spPr>
          <a:xfrm flipH="1" rot="16200000">
            <a:off x="3292200" y="4237920"/>
            <a:ext cx="361080" cy="326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3419640" y="2422440"/>
            <a:ext cx="2447640" cy="433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tCDF interface c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9" name=""/>
          <p:cNvCxnSpPr>
            <a:stCxn id="141" idx="3"/>
            <a:endCxn id="148" idx="1"/>
          </p:cNvCxnSpPr>
          <p:nvPr/>
        </p:nvCxnSpPr>
        <p:spPr>
          <a:xfrm>
            <a:off x="3058920" y="2638440"/>
            <a:ext cx="361080" cy="216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3419640" y="3070080"/>
            <a:ext cx="244764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b interface c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1" name=""/>
          <p:cNvCxnSpPr>
            <a:stCxn id="136" idx="3"/>
            <a:endCxn id="150" idx="1"/>
          </p:cNvCxnSpPr>
          <p:nvPr/>
        </p:nvCxnSpPr>
        <p:spPr>
          <a:xfrm flipV="1">
            <a:off x="3058920" y="3285360"/>
            <a:ext cx="361080" cy="252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4500720" y="3790800"/>
            <a:ext cx="324000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b home (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"/>
          <p:cNvCxnSpPr>
            <a:stCxn id="137" idx="3"/>
            <a:endCxn id="152" idx="1"/>
          </p:cNvCxnSpPr>
          <p:nvPr/>
        </p:nvCxnSpPr>
        <p:spPr>
          <a:xfrm>
            <a:off x="3993840" y="4005360"/>
            <a:ext cx="506880" cy="21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5867280" y="4367160"/>
            <a:ext cx="230364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mp d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"/>
          <p:cNvCxnSpPr>
            <a:stCxn id="146" idx="3"/>
            <a:endCxn id="154" idx="1"/>
          </p:cNvCxnSpPr>
          <p:nvPr/>
        </p:nvCxnSpPr>
        <p:spPr>
          <a:xfrm>
            <a:off x="5362560" y="4581000"/>
            <a:ext cx="505440" cy="252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5867280" y="5014800"/>
            <a:ext cx="230364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ample data d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7" name=""/>
          <p:cNvCxnSpPr>
            <a:stCxn id="142" idx="3"/>
            <a:endCxn id="156" idx="1"/>
          </p:cNvCxnSpPr>
          <p:nvPr/>
        </p:nvCxnSpPr>
        <p:spPr>
          <a:xfrm>
            <a:off x="5362560" y="5230440"/>
            <a:ext cx="505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5867280" y="5664240"/>
            <a:ext cx="230364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ther data di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9" name=""/>
          <p:cNvCxnSpPr>
            <a:stCxn id="144" idx="3"/>
            <a:endCxn id="158" idx="1"/>
          </p:cNvCxnSpPr>
          <p:nvPr/>
        </p:nvCxnSpPr>
        <p:spPr>
          <a:xfrm>
            <a:off x="5362560" y="5878080"/>
            <a:ext cx="505440" cy="252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55640" y="1989000"/>
            <a:ext cx="8074080" cy="41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Code is OpenSource under The MIT Licen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Collaboration Tool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sipfed-Wiki: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ourceForge project page: forum, bugtrack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ARCS distributed version control system: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(currently) two main repositories: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USTL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nd FZ Jueli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asy to set up your own full-featured reposi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further information available on the SourceForge project p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Test-driven development pro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it tests: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OWS/test/unit.p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5b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s: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OWS/test/integ.p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umsplatzhalter 2"/>
          <p:cNvSpPr/>
          <p:nvPr/>
        </p:nvSpPr>
        <p:spPr>
          <a:xfrm>
            <a:off x="720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C931-ED64-4AAE-9B71-54ACD24971DC}" type="datetime3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45E0-E291-49F0-A1E8-18DF57B5505C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20360" y="1152000"/>
            <a:ext cx="748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5b82"/>
                </a:solidFill>
                <a:latin typeface="Arial"/>
                <a:ea typeface="Arial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0:53:40Z</dcterms:created>
  <dc:creator>Admin.Reisen</dc:creator>
  <dc:description/>
  <dc:language>en-US</dc:language>
  <cp:lastModifiedBy>Kari Hoijarvi</cp:lastModifiedBy>
  <cp:lastPrinted>2011-05-13T10:04:16Z</cp:lastPrinted>
  <dcterms:modified xsi:type="dcterms:W3CDTF">2011-08-09T19:03:30Z</dcterms:modified>
  <cp:revision>151</cp:revision>
  <dc:subject/>
  <dc:title>PowerPoint-Präsentation</dc:title>
</cp:coreProperties>
</file>